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AE2-C48D-47F8-8137-B6F3D50F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F4A-27AA-4E7C-A6C3-613C9146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A11-60AA-4261-BD98-2ABD4829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6A6-A31E-48CD-A081-31B2074F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75E8-2A30-46DA-81E0-27A8551B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233-B603-4D47-A851-D9EDD72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67E4-A297-4D45-91C4-FBC996E7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AB3-D519-4FDD-B397-6FA58CD5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BCC-4F25-483E-8648-713EE56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EBD8-5B48-41B0-9A7B-6553825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2B7D-2E83-417D-857B-F20BE66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051-435F-4AA7-871F-B66E2AD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33B3-E7AB-44D7-8BBF-F518BD0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F4B-B361-452D-97DA-8828952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836A-BF9B-410A-BB35-4DF03293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B432-3A53-45A0-B292-98261334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CFB3-208C-42EE-A4C6-F0731409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C9-EC69-4B89-8130-0454DAD8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8CD-06A8-4A9F-8AF4-6FEDB53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C38-3068-46F7-A4CA-6386BED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F53-2AF2-45BE-A143-9F6CA544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A3D-CC7D-4871-A8DA-E1D1368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0C0-2C25-4470-8FAE-A16E60C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51F-79B0-4064-8188-F69CAC7C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B03-7254-4111-A475-853718C4F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5E9E-53D1-4194-A526-1D234FAFA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Connie Campbell</cp:lastModifiedBy>
  <dcterms:modified xsi:type="dcterms:W3CDTF">2002-05-31T21:44:21Z</dcterms:modified>
  <cp:revision>14</cp:revision>
  <dc:subject/>
  <dc:title>Jeopardy</dc:title>
</cp:coreProperties>
</file>